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8690-3799-4243-BB24-5BAF36743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952F-2035-495F-BFCB-AB49FB53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0CA-430C-4197-9D71-F40407B9F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820-5854-43D7-BD04-303B818C7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C943-4126-4ADF-9049-BD88671C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48D0-CC2B-404C-9468-2C2A0B11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01F1-A484-41B3-820A-F6473CC2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E57D-B577-4A7B-9A67-60186AC0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2363-C864-41FA-8857-CC6716EA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5815-ECCA-4B5D-BF0D-AF212AAC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581F-8E2F-459A-A605-4027FB2C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6C08-7064-4553-B206-848E49F1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8C02-8906-4C22-89C7-70AAAB8F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2FCE-30D1-4474-BF16-6770190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B041-918D-4BE5-9B2F-70C863B0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B015-A455-4B52-83C5-A81DE6AA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CAB6-D0B3-4FC7-A740-2AC339B7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40C8-267F-475D-BBCC-3D259922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CFA-C0B9-4309-A891-C647165A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0AB-5897-4149-B9C6-E5637B67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8DF8-149E-4ADE-81DB-7F4A589A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417-F3FF-4099-82E1-86F523F6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7C9C-1074-4547-AF5D-1408ADA5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C8CA-4314-4572-B60C-229F45CB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C18E-F7FA-467A-AD58-2F86247BD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FF0E-AACC-4085-9A5D-53471654D7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 rtl="1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 rtl="1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62160" y="3048120"/>
            <a:ext cx="31100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e_Granada"/>
              </a:rPr>
              <a:t>القص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e_Granada"/>
              <a:ea typeface="ae_Granada"/>
            </a:endParaRPr>
          </a:p>
        </p:txBody>
      </p:sp>
      <p:sp>
        <p:nvSpPr>
          <p:cNvPr id="121" name=""/>
          <p:cNvSpPr txBox="1"/>
          <p:nvPr/>
        </p:nvSpPr>
        <p:spPr>
          <a:xfrm rot="5400000">
            <a:off x="-1428840" y="3819600"/>
            <a:ext cx="4305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الصف الثالث الإعدادى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  <p:sp>
        <p:nvSpPr>
          <p:cNvPr id="122" name=""/>
          <p:cNvSpPr txBox="1"/>
          <p:nvPr/>
        </p:nvSpPr>
        <p:spPr>
          <a:xfrm rot="16200000">
            <a:off x="6215040" y="3810240"/>
            <a:ext cx="4300560" cy="90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path path="rect">
                    <a:fillToRect l="50000" t="50000" r="50000" b="50000"/>
                  </a:path>
                </a:gradFill>
                <a:latin typeface="B Elham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atin typeface="B Elham"/>
              <a:ea typeface="B Elham"/>
            </a:endParaRPr>
          </a:p>
        </p:txBody>
      </p:sp>
    </p:spTree>
  </p:cSld>
  <p:transition advTm="3000"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1495440"/>
            <a:ext cx="8076960" cy="1171440"/>
          </a:xfrm>
          <a:prstGeom prst="flowChartAlternateProcess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1080" y="414360"/>
            <a:ext cx="8762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75"/>
                    </a:gs>
                    <a:gs pos="50000">
                      <a:srgbClr val="0000ff"/>
                    </a:gs>
                    <a:gs pos="100000">
                      <a:srgbClr val="000075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 Esfehan"/>
              </a:rPr>
              <a:t>قصــــــــه</a:t>
            </a:r>
            <a:endParaRPr b="1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75"/>
                  </a:gs>
                  <a:gs pos="50000">
                    <a:srgbClr val="0000ff"/>
                  </a:gs>
                  <a:gs pos="100000">
                    <a:srgbClr val="000075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 Esfehan"/>
              <a:ea typeface="B Esfeh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42960" y="1528920"/>
            <a:ext cx="777240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Jerk"/>
              </a:rPr>
              <a:t>Journey To The Centre Of The Earth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Jerk"/>
              <a:ea typeface="Jer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14400" y="2776680"/>
            <a:ext cx="35812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Character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09520" y="3624120"/>
            <a:ext cx="852012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xel: A young boy who lives with his uncle Professor Lidenbroc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43440" y="2762280"/>
            <a:ext cx="32004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شخصيات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409840" y="4033800"/>
            <a:ext cx="6529320" cy="4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كسل: شاب يعيش مع عمه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247760" y="490680"/>
            <a:ext cx="48290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17175e"/>
                    </a:gs>
                    <a:gs pos="50000">
                      <a:srgbClr val="3333cc"/>
                    </a:gs>
                    <a:gs pos="100000">
                      <a:srgbClr val="17175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TORY</a:t>
            </a:r>
            <a:endParaRPr b="0" lang="en-US" sz="1800" spc="1" strike="noStrike">
              <a:ln w="381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17175e"/>
                  </a:gs>
                  <a:gs pos="50000">
                    <a:srgbClr val="3333cc"/>
                  </a:gs>
                  <a:gs pos="100000">
                    <a:srgbClr val="17175e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43000" y="2090880"/>
            <a:ext cx="6705720" cy="50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5000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KacstArt"/>
              </a:rPr>
              <a:t>رحله إلى مركز الأرض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KacstArt"/>
              <a:ea typeface="KacstAr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40" y="4629240"/>
            <a:ext cx="86011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Professor Lidenbrock: A famous scientist and geologist . Axel’ s uncl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523880" y="5100480"/>
            <a:ext cx="741060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بروفيسير ليدنبروك: عالم مشهور وجيولوجى ، عم أكسل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5120" y="5681520"/>
            <a:ext cx="620568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tha: Professor Lidenbrock’ s c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05320" y="6062760"/>
            <a:ext cx="542916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ثا: طباخة بروفيسير ليدنبرو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5120" y="547560"/>
            <a:ext cx="468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ns: A guide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257800" y="914400"/>
            <a:ext cx="36766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نز: مرشد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00160" y="1442880"/>
            <a:ext cx="6048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Dr Fridrikson: A scientist from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00160" y="2308320"/>
            <a:ext cx="52099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Jules Verne: A writer of the stor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00160" y="3195720"/>
            <a:ext cx="6962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orri Sturlasson: A writer of the old boo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95120" y="4052880"/>
            <a:ext cx="7653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Arne Saknussemm: A writer of the parchment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76720" y="1857240"/>
            <a:ext cx="56577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دكتور فريدريكسون: عالم من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952880" y="2824200"/>
            <a:ext cx="3981600" cy="29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جول فيرن: كاتب القصه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657600" y="3648240"/>
            <a:ext cx="52768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ورى سترلاسون: كاتب الكتاب القديم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448160" y="4557600"/>
            <a:ext cx="44956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آرن ساكنوسم: كاتب البرشمان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066680" y="423720"/>
            <a:ext cx="3429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laces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00160" y="1162080"/>
            <a:ext cx="4905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Hamburg: A city in German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829040" y="380880"/>
            <a:ext cx="312444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S_Cairo"/>
              </a:rPr>
              <a:t>الأماكن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S_Cairo"/>
              <a:ea typeface="FS_Cairo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562720" y="1533600"/>
            <a:ext cx="337176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هامبورج: مدينه فى ألمان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5120" y="2023920"/>
            <a:ext cx="71200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Iceland: An island in the North Sea above Europe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124080" y="248616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أيسلندا: جزيره فى بحر الشمال فوق أوروبا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00160" y="3024360"/>
            <a:ext cx="666252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Reykjavik: The capital city of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05520" y="3443400"/>
            <a:ext cx="38289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ريكجافيك: عاصمة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95120" y="3913200"/>
            <a:ext cx="62056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neffels: An axticit volcano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267080" y="4352760"/>
            <a:ext cx="4667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نيفلز: بركان خامد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5120" y="485316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cartaris: A high mountain in Iceland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733920" y="5229360"/>
            <a:ext cx="5200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كارتاريس: جبل عالى فى أيسلند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5120" y="5718240"/>
            <a:ext cx="666288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Copenhagen: The capital city of Denmark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105520" y="6138720"/>
            <a:ext cx="3828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كوبنهاجن: عاصمة الدنمارك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</p:spTree>
  </p:cSld>
  <p:transition advTm="3000"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95120" y="442800"/>
            <a:ext cx="826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tromboli: A small island off the coast of southern Italy 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438280" y="890640"/>
            <a:ext cx="64962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ترومبولى: جزيره صغيره بعيده عن الساحل الجنوبى لإيطاليا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95120" y="1400040"/>
            <a:ext cx="651060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San Vicenzo: The largest town on Stromboli . 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124080" y="1795320"/>
            <a:ext cx="58104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سان فتشنزو: أوسع بلده فى سترومبولى 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5120" y="2347920"/>
            <a:ext cx="742500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essina: A port on the island of Sicily, Italy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743200" y="2771640"/>
            <a:ext cx="6191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يسينا: ميناء على جزيرة صقليه فى إيطالي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5120" y="3233880"/>
            <a:ext cx="7958160" cy="39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Marseilles: A port on the southern coast of France .</a:t>
            </a:r>
            <a:endParaRPr b="0" lang="en-US" sz="1800" spc="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3672000"/>
            <a:ext cx="61912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cc00"/>
                </a:solidFill>
                <a:latin typeface="Basha 8C"/>
              </a:rPr>
              <a:t>مارسيليا: ميناء على الساحل الجنوبى لفرنسا .</a:t>
            </a:r>
            <a:endParaRPr b="1" lang="en-US" sz="1800" spc="1" strike="noStrike">
              <a:ln w="0">
                <a:noFill/>
              </a:ln>
              <a:solidFill>
                <a:srgbClr val="00cc00"/>
              </a:solidFill>
              <a:latin typeface="Basha 8C"/>
              <a:ea typeface="Basha 8C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71600" y="5715000"/>
            <a:ext cx="6172200" cy="8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Kufi14 Normal"/>
              </a:rPr>
              <a:t>إلى اللقاء مع الفصل الأول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Kufi14 Normal"/>
              <a:ea typeface="Kufi14 Normal"/>
            </a:endParaRPr>
          </a:p>
        </p:txBody>
      </p:sp>
    </p:spTree>
  </p:cSld>
  <p:transition advTm="3000"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0T03:57:59Z</dcterms:created>
  <dc:creator>A1-AL-FARIS</dc:creator>
  <dc:description/>
  <dc:language>en-US</dc:language>
  <cp:lastModifiedBy>Arwa</cp:lastModifiedBy>
  <dcterms:modified xsi:type="dcterms:W3CDTF">2009-09-28T19:39:53Z</dcterms:modified>
  <cp:revision>14</cp:revision>
  <dc:subject/>
  <dc:title>الشريحة 1</dc:title>
</cp:coreProperties>
</file>